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0665-245A-40D9-8A60-574D9B5837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8DB-0C9F-4C34-9312-C35A2B2498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85F1-6F63-4DE7-BC58-A1246B0E66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12DB-3E27-478F-893E-279DA04FFC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E085-7A4D-464C-8A1D-FCC618E9DC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CCC0-F194-4220-BFEC-13228A4D34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6A4E-3598-473E-94B5-58641673E2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E30-8846-42E0-9197-F2DDABE254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5B0E-7C5C-4061-ADB2-8560D2A894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3AE7-CDDC-4135-B3E7-D6B85C7091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44F3-462D-48B8-9C74-F3B8E3E458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24D2-8041-4C4F-A009-124536BF82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89C2-E06A-4DAA-9FFD-BB14207821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AAE8-1D56-418C-A922-3E00F7F8E0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8725-F5AD-4699-AD8A-1614A1EF35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1F64-1CDC-4C3E-9220-879BEDDF09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BFE8-F99A-491E-BDE4-31BA4C0C94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6451-1493-4F25-9AEE-9423195C8D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905D-1FD7-4494-A589-BEDD2721FA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A03A-3744-4071-B9CC-3379B1C26C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4F51-B0D6-4C79-9BD4-28D655F271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60A2-29E4-4CE6-849F-FA57917CA0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38B5-7CA4-4517-A547-96D3351E04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38C-8962-41C3-9132-6E22443137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F207-A08C-4EAD-A656-A2A25799EB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DBE-3A13-43EA-BA9D-29BA9F1D6A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72C3-0BAD-4130-B071-38E7B089B2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872-9C95-4160-B8DD-0D2ABF67AD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D82-17C6-47C8-8C9F-B638C52BDA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C1F1-C455-432C-9CAB-CE01969BA6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1E3-F2AA-4694-A942-13CBBB0FCA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E57-1B86-494E-A43C-A8A879BD2C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D55D-5329-4A09-A73C-2DD24F5AD7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E90-2329-4E81-B614-E1C6DA2387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0FFD-6431-4518-8651-3B465848D3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628-66A8-448F-B407-E3AE85AA47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A8BB-CE0F-4FB4-B17B-BFF319954E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EB9-38A6-43C1-8DF2-5F4AB671EC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AD10-3CCA-4F3A-9E45-11A2BC1D97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CFA1-18E9-4B7C-A534-4A1515CB66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F8C8-F8B1-4379-B14D-1CAA9F8EE1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279-6854-432C-9F22-E22AC579B1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1495-6DB0-4F2C-8C7A-ABFF305ABD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1EB-EB8B-4D4D-A7C5-AF1592A0C2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2940-150D-4964-936A-7E51AE6B2B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D65-3F6E-459F-898A-59CB9B9F86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57AD-C91D-42AE-8233-547208E19B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B66-E599-4E76-A885-82C35453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CCA-C45D-452D-A652-454007A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BE5-D588-45A2-8BF8-9F225CF5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34E-A044-47B3-B41C-72A93C3F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7AF-5442-43CD-A59A-E8BCE64E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A0A-63E6-40AC-893B-4F2013CB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9BF-91F0-4E33-9478-D76B2EC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51D-81A3-40E7-939C-D78DC637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568-0B2E-4493-939B-E2124E4F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BB8-4D44-43A3-8B06-4804E167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B90-9743-447D-B68B-EE5C32D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BEE-7E96-4A07-A29B-7C53385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432-164C-4B65-B2C1-A4BE20A6D8E4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ěn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어째서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ūnti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夏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秋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ū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冬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dōngti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겨울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暖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nuǎnhu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따뜻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덥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凉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liángkuai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大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舒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头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óut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머리가 아프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感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ǎnmào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기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걸리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发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sh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열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厉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ìha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많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水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ǐguǒ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과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해야 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打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zhē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주사를 맞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 것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哪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l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천만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겸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ǒy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래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xí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되다</a:t>
            </a:r>
            <a:r>
              <a:rPr b="0" lang="en-US" sz="8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괜찮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作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y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숙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一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ídì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반드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y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ě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ó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머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프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肚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ù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적게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할 수 있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电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iànnǎo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컴퓨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蔬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c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채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看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kànbìng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59920" y="4881240"/>
            <a:ext cx="638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진찰을 받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진찰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眼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ǎnji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鼻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í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입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耳朵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ěrdu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最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ìjì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최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天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ānq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날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ě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날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注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ùy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의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身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t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건강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8:49:04Z</dcterms:created>
  <dc:creator>System</dc:creator>
  <dc:description/>
  <dc:language>en-US</dc:language>
  <cp:lastModifiedBy>System</cp:lastModifiedBy>
  <dcterms:modified xsi:type="dcterms:W3CDTF">2014-01-27T01:21:06Z</dcterms:modified>
  <cp:revision>10</cp:revision>
  <dc:subject/>
  <dc:title>슬라이드 1</dc:title>
</cp:coreProperties>
</file>